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731-2433-4AF6-B2EC-E122A566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3D7-3FDA-4186-A5FE-0FE29F72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562-1F38-4428-8515-1534526E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86F-FA84-4916-A766-F9261A31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272-0C4C-4F50-91F1-4ABD909E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134F-9221-42E0-AA19-5CD95AF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941-793E-4C60-93DA-B5BFF57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1215-AFD7-4318-AB85-3579C8EE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555-1F42-4604-9F9A-D3C9114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D0F1-8F1B-40B3-BB81-70101AA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1A6-E090-495B-87A7-00F1D80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512-B69F-417B-8911-A5A4FE7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5529-F96A-4788-9698-EE452DF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275-0891-46EB-91C6-C58BA4C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7E3-1015-44D7-B4D8-8DEFECBB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ECE0-FD11-4C0B-B48D-F088BBB0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70F3-80A6-43AD-82F5-2CEF0DE7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E45-7DF2-4C1B-A445-94553D1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053-21EC-4958-8D66-1A4401B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461-F69E-4911-860D-A420BF9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EA1-BB2A-4D1E-BC25-1092FA9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2C0-E345-4C81-9F6F-E2D8E54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CE4-E3FA-47BA-8246-4CA9D3D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A52-D719-4B0B-9C0F-E9B91A9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3FCB-E713-40B7-A893-B0217CAA0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D5B-2F4A-4E53-A64E-ABB6B9AC7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OLUÇÃO/CONAMA/Nº 009 de 06 de dezembro de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da no D.O.U, de 28/12/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6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concessão da Portaria de lavra ficará condicionada à apresentação ao DNPM, por parte do empreendedor, da Licença de Instalação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7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pós a obtenção da Portaria de lavra e a implantação dos projetos constantes do PCA, aprovados quando da concessão da Licença de Instalação, o empreendedor deverá requerer a Licença de Operação, apresentando a documentação necessár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1º - O órgão ambiental competente, após a verificação da implantação dos projetos constantes do PCA e a análise da documentação pertinente, decidirá sobre a concessão da 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2º - O órgão ambiental competente, após a comprovação da implantação dos projetos do PCA, concederá a Licença de Operaçã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41:09Z</dcterms:modified>
  <cp:revision>73</cp:revision>
  <dc:subject/>
  <dc:title>Apresentação do PowerPoint</dc:title>
</cp:coreProperties>
</file>